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1004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1004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C2A6E35-3B27-4B58-8830-2A2B0A2AA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702D1B0-4964-4AE7-B97C-B0676F215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E122D07-3E93-4A43-8AE0-CA4974115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6BFC82A-E2A2-4C8C-AE86-37CD7AC6A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B8EDE66-87C6-44FC-9124-BA311E539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8C24AB2-2D58-4EA3-8B4D-6B688FCCD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C8A544D-596C-4DCE-82CC-210260A9E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16ED1B9-7FEF-4B7D-BE61-59B183B3C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68E88F6-A059-4454-88E2-ECE71CDE3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AA3FB14-9C79-42DE-983A-F527AB050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503EE03-2EE0-4F54-A67D-280F1EBA5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73B4DCF-B8AA-442E-8015-D2C88BD87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3D94304-D5D5-4D0C-98FC-1C2C734FC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559250F-A0D5-4C75-AD20-3DFB6F687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BD2B22D-BD38-4120-B1F2-0EAD7BE32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9D42-A474-43E7-B383-E3ECFFA3C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3BE6-2026-43DD-9B0B-142968EEB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3ABC-A3BF-4803-9403-F69E98F08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D6704-70F2-4A2B-8F6F-EC9A59C794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2813-A494-4FCC-B35B-973D39D73F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750D-8B3C-4782-B317-5F1C75479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8EC8-4604-4C81-8F08-51D3F1B02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A9A8-1CBE-4D96-8EB8-7B8987889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24012-72BF-41C2-8639-6634AB31D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92A8-9987-47DB-B5FB-33CC2BBF8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6608-B806-426E-B651-B54014CA5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23F2-4079-48B8-B738-4B2B3616E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EC98-4ED8-47E3-BD38-7939713C4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792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61C9-AE38-4666-9AF5-E8F50E24D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Performa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ough Training and Development, 5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Presentation prepa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acey Starrett, M. Ed, CH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chool of Human Resource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rk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4D54-DA2E-47B6-809A-EC5F29467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Employe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in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knowledge &amp; skills, higher self-efficacy, feel more useful, have more positive attitudes towards their job and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in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earnings, more marketable, greater job security, and enhanced promotion pro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CF6C-6797-4600-8FE9-E04AE1E6D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57360"/>
            <a:ext cx="5567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Societal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ucated popul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s to create educated and skilled work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of liv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ant on productivity and productivity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1-10.jpg"/>
          <p:cNvPicPr/>
          <p:nvPr/>
        </p:nvPicPr>
        <p:blipFill>
          <a:blip r:embed="rId1"/>
          <a:stretch/>
        </p:blipFill>
        <p:spPr>
          <a:xfrm>
            <a:off x="5214960" y="1714680"/>
            <a:ext cx="37148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FA99-DE53-4233-85DC-D4DF54FAA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pSp>
        <p:nvGrpSpPr>
          <p:cNvPr id="104" name="Diagram 5"/>
          <p:cNvGrpSpPr/>
          <p:nvPr/>
        </p:nvGrpSpPr>
        <p:grpSpPr>
          <a:xfrm>
            <a:off x="2935440" y="1844640"/>
            <a:ext cx="3906720" cy="3368880"/>
            <a:chOff x="2935440" y="1844640"/>
            <a:chExt cx="3906720" cy="3368880"/>
          </a:xfrm>
        </p:grpSpPr>
        <p:sp>
          <p:nvSpPr>
            <p:cNvPr id="105" name="_s2052"/>
            <p:cNvSpPr/>
            <p:nvPr/>
          </p:nvSpPr>
          <p:spPr>
            <a:xfrm>
              <a:off x="2935440" y="2789280"/>
              <a:ext cx="2424240" cy="2424240"/>
            </a:xfrm>
            <a:prstGeom prst="donut">
              <a:avLst>
                <a:gd name="adj" fmla="val 166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3"/>
            <p:cNvSpPr/>
            <p:nvPr/>
          </p:nvSpPr>
          <p:spPr>
            <a:xfrm>
              <a:off x="6196320" y="29210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cietal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2054"/>
            <p:cNvSpPr/>
            <p:nvPr/>
          </p:nvSpPr>
          <p:spPr>
            <a:xfrm>
              <a:off x="3338640" y="3192480"/>
              <a:ext cx="1616040" cy="161604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2055"/>
            <p:cNvSpPr/>
            <p:nvPr/>
          </p:nvSpPr>
          <p:spPr>
            <a:xfrm>
              <a:off x="6196320" y="23828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ganization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6"/>
            <p:cNvSpPr/>
            <p:nvPr/>
          </p:nvSpPr>
          <p:spPr>
            <a:xfrm>
              <a:off x="3743640" y="3597120"/>
              <a:ext cx="807840" cy="808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2057"/>
            <p:cNvSpPr/>
            <p:nvPr/>
          </p:nvSpPr>
          <p:spPr>
            <a:xfrm>
              <a:off x="6196320" y="18446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mployee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ED4F-399F-4798-9F0A-7BA680A1A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in Canada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hours of training: 25/year (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expenditure $852/employee (2006) down slightly from $914 in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annual training expenditure: $4.9 million across all industries (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04D2-A744-4FBF-BBA7-4BA2EB4CE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vestment or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xpense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31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ranks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t of 60 countries in ranking of employee training as a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ed as cost or expense results in limited/required 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ed as investment is part of organization’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n five companies invests more than 3% of payroll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iabank = $47m, BMO = $1800/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DC55-0BA7-43BE-BDB2-3FEE7A9D7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Quebec Training Law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d in 1995  - “1% or training la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payroll training tax 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$1m invest minimum 1% or pay equivalent to gov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 report on impact of law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effect on way training is structured, organized and deli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rates incr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llaboration in promoting learning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ffect on medium sized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2636-7E3C-43F4-B2DE-3AE22169D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26" name="Picture 4" descr="F1-1"/>
          <p:cNvPicPr/>
          <p:nvPr/>
        </p:nvPicPr>
        <p:blipFill>
          <a:blip r:embed="rId1"/>
          <a:stretch/>
        </p:blipFill>
        <p:spPr>
          <a:xfrm>
            <a:off x="228600" y="1447920"/>
            <a:ext cx="85345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D08A-48B3-47AB-AEFC-C8A604B21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al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 competi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bour mark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cial cl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1-16.jpg"/>
          <p:cNvPicPr/>
          <p:nvPr/>
        </p:nvPicPr>
        <p:blipFill>
          <a:blip r:embed="rId1"/>
          <a:stretch/>
        </p:blipFill>
        <p:spPr>
          <a:xfrm>
            <a:off x="5357880" y="2071800"/>
            <a:ext cx="32860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D7D0-C405-4990-A387-53FC7F26E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Organizational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1-17.jpg"/>
          <p:cNvPicPr/>
          <p:nvPr/>
        </p:nvPicPr>
        <p:blipFill>
          <a:blip r:embed="rId1"/>
          <a:stretch/>
        </p:blipFill>
        <p:spPr>
          <a:xfrm>
            <a:off x="4357800" y="2286000"/>
            <a:ext cx="29653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7256-C5FD-4BF6-B863-0D8521C18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Human Resources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unctional areas of HR work together to create an H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n by organizational strategy and SH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what constitutes a High Performance Work System (HP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to a Strategic Model of Training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C2D8-0A46-416D-9FFE-A77922C5E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On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Training and Development Pro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1-1.jpg"/>
          <p:cNvPicPr/>
          <p:nvPr/>
        </p:nvPicPr>
        <p:blipFill>
          <a:blip r:embed="rId1"/>
          <a:stretch/>
        </p:blipFill>
        <p:spPr>
          <a:xfrm>
            <a:off x="3643200" y="3500280"/>
            <a:ext cx="2041560" cy="26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BF0E-8A40-4EF9-9EAB-A24B5FE26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Strategic Model of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Training &amp;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strategy will influence the HRM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in turn, the HRM strategy will influence the strategy for learning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eads to the decisions on the type of training and development activities and programs that will be necess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depicted in Fig. 1.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575F-96E5-4B6B-91D3-90593B2BF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Strategic Model of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Training &amp;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276720" y="1916280"/>
            <a:ext cx="293040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4572000" y="355284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367920" y="569916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Figure 1.2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3276720" y="2952720"/>
            <a:ext cx="293040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M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2413080" y="4057560"/>
            <a:ext cx="489564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and Training Strate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2124000" y="5113440"/>
            <a:ext cx="547236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and Development Progr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31"/>
          <p:cNvSpPr/>
          <p:nvPr/>
        </p:nvSpPr>
        <p:spPr>
          <a:xfrm>
            <a:off x="4572000" y="24922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32"/>
          <p:cNvSpPr/>
          <p:nvPr/>
        </p:nvSpPr>
        <p:spPr>
          <a:xfrm>
            <a:off x="4572000" y="463248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1908-41D5-45F7-880C-3B0BF2112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ional Systems Design Mode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59" name="Picture 6" descr="F1-2jpg"/>
          <p:cNvPicPr/>
          <p:nvPr/>
        </p:nvPicPr>
        <p:blipFill>
          <a:blip r:embed="rId1"/>
          <a:stretch/>
        </p:blipFill>
        <p:spPr>
          <a:xfrm>
            <a:off x="380880" y="1981080"/>
            <a:ext cx="8001000" cy="37339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460080" y="545292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3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88A5-7731-4EFA-A6C1-C2DD13411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7361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ional and scientific model of T&amp;D process consisting of 3 major step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needs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esign and deliver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  <a:tab algn="l" pos="7959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with performance gap or itch (probl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  <a:tab algn="l" pos="7959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D model is the basis for rest of the cour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C673-D0A2-41CA-B1A9-FB60A6B15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the training and development proc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&amp;D plays important role in effectiveness and competitiveness of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investment in human capital, with dividends for the individual, the organization, and society at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raining in Canada is discussed with added emphasis on the Quebec Training Law and its effectiveness since its in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C33E-8A87-4EA3-B9BB-D097B4FDA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raining and development is increased when linked to SHRM; aligned with other HR practices (and a HPWS); and tied to an organization’s busines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s instructional systems design (ISD)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oncepts to be addressed in subsequent chapters, such as needs analysis, training design and delivery, and the evaluation of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D124-5831-4713-9B09-6B40C0F16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699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meaning of performance management, training, development, and human resource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organization, employee, and societal benefits of T&amp;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current state of T&amp;D in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environmental and organizational context of T&amp;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meaning of strategic human resources management and strategic T&amp;D, and high performance work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nstructional systems design model of T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54BE-BB56-452A-BFAB-98257AF12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and Development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s on a daily basis require us or someone else to demonstrate effective perform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 of these situations varies from minor to extremely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performance often comes from some form of education, learning, training, o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link between effective performance and individual and organizational effective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F401-460E-42FB-B37A-61F357640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cess of establishing performance expectations with employ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ing interventions and programs to improve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ing success of interventions and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1-4.jpg"/>
          <p:cNvPicPr/>
          <p:nvPr/>
        </p:nvPicPr>
        <p:blipFill>
          <a:blip r:embed="rId1"/>
          <a:stretch/>
        </p:blipFill>
        <p:spPr>
          <a:xfrm>
            <a:off x="3286080" y="4500720"/>
            <a:ext cx="2517840" cy="18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5F7B-D644-4E31-AEF7-878E9D5BA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40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Diagram 5"/>
          <p:cNvGrpSpPr/>
          <p:nvPr/>
        </p:nvGrpSpPr>
        <p:grpSpPr>
          <a:xfrm>
            <a:off x="2670120" y="2565360"/>
            <a:ext cx="3577320" cy="3600000"/>
            <a:chOff x="2670120" y="2565360"/>
            <a:chExt cx="3577320" cy="3600000"/>
          </a:xfrm>
        </p:grpSpPr>
        <p:sp>
          <p:nvSpPr>
            <p:cNvPr id="73" name="_s1028"/>
            <p:cNvSpPr/>
            <p:nvPr/>
          </p:nvSpPr>
          <p:spPr>
            <a:xfrm>
              <a:off x="3450960" y="2565360"/>
              <a:ext cx="2014200" cy="2560320"/>
            </a:xfrm>
            <a:custGeom>
              <a:avLst/>
              <a:gdLst>
                <a:gd name="textAreaLeft" fmla="*/ 0 w 2014200"/>
                <a:gd name="textAreaRight" fmla="*/ 2014560 w 2014200"/>
                <a:gd name="textAreaTop" fmla="*/ 0 h 2560320"/>
                <a:gd name="textAreaBottom" fmla="*/ 2560680 h 256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029"/>
            <p:cNvSpPr/>
            <p:nvPr/>
          </p:nvSpPr>
          <p:spPr>
            <a:xfrm rot="7200000">
              <a:off x="3454560" y="3445200"/>
              <a:ext cx="2560680" cy="2014200"/>
            </a:xfrm>
            <a:custGeom>
              <a:avLst/>
              <a:gdLst>
                <a:gd name="textAreaLeft" fmla="*/ 0 w 2560680"/>
                <a:gd name="textAreaRight" fmla="*/ 2561040 w 256068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1030"/>
            <p:cNvSpPr/>
            <p:nvPr/>
          </p:nvSpPr>
          <p:spPr>
            <a:xfrm rot="14400000">
              <a:off x="2901600" y="3447000"/>
              <a:ext cx="2560680" cy="2014200"/>
            </a:xfrm>
            <a:custGeom>
              <a:avLst/>
              <a:gdLst>
                <a:gd name="textAreaLeft" fmla="*/ 0 w 2560680"/>
                <a:gd name="textAreaRight" fmla="*/ 2561040 w 256068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031"/>
            <p:cNvSpPr/>
            <p:nvPr/>
          </p:nvSpPr>
          <p:spPr>
            <a:xfrm>
              <a:off x="5008680" y="3032280"/>
              <a:ext cx="808920" cy="10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stablis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xpecta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1032"/>
            <p:cNvSpPr/>
            <p:nvPr/>
          </p:nvSpPr>
          <p:spPr>
            <a:xfrm>
              <a:off x="4053240" y="5137560"/>
              <a:ext cx="808560" cy="10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nterven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_s1033"/>
            <p:cNvSpPr/>
            <p:nvPr/>
          </p:nvSpPr>
          <p:spPr>
            <a:xfrm>
              <a:off x="3097080" y="3034080"/>
              <a:ext cx="808560" cy="10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onitor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ucce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D0D7-05D1-4936-9713-5B2128114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set of interventions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cquisition of KSAs to improve performance in one’s current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cquisition of KSAs required to perform future job responsibilities and in the long-term achievement of individual career goals and organizational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75BD-B9C1-48FB-9C8B-520A4B124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64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Resources Developmen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atic and planned activities that are designed by an organization to provide employees with an opportunity to learn necessary skills to meet current and future job 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A24B-3777-4E5F-8E04-80FBE66F8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35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benef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organizational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 recruitment and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1-8.jpg"/>
          <p:cNvPicPr/>
          <p:nvPr/>
        </p:nvPicPr>
        <p:blipFill>
          <a:blip r:embed="rId1"/>
          <a:stretch/>
        </p:blipFill>
        <p:spPr>
          <a:xfrm>
            <a:off x="5786280" y="1428840"/>
            <a:ext cx="2862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> Saks/Haccoun 5ed</dc:description>
  <dc:language>en-US</dc:language>
  <cp:lastModifiedBy>Karina</cp:lastModifiedBy>
  <dcterms:modified xsi:type="dcterms:W3CDTF">2009-10-30T18:15:30Z</dcterms:modified>
  <cp:revision>125</cp:revision>
  <dc:subject/>
  <dc:title>Ch1  PPT Slides</dc:title>
</cp:coreProperties>
</file>